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528C-CEEC-4DEA-A02C-D2915CCEB6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5FE2-D75C-4334-8D5A-6F937756C527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BAB8-A98D-480F-A2E0-F5B429CD3FA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7DDD-C15F-4025-8193-0296101B273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2743D-51CC-44E0-BE86-915E78959BB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8CFE-AEB4-4756-B22E-4E02E9DD24A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19B-35F1-42E8-BB1E-3E9CAE9136CE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32BB-883D-4E62-847E-47F489D2D9CB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4C7-8718-4A6F-88B3-1E255DEA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C79-7789-4796-A883-A19347EA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DEE-3EE5-485C-BE3D-A15BA6D70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9CD-1119-4AC7-BD65-B9D7F8414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4DA1-969D-4267-B95C-0C1DDB56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B3B-BBAD-47C2-BF33-4A6525F1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2BB-7A1D-465C-AAC0-6BD5B99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1EB-78CB-4B01-8F79-E5DB3D85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267B-07FE-443B-B158-B63A8DBE4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0B3-DFCE-4580-A8A5-E4DCA60B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B9F8-2C8D-4747-9303-B3E399D6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E25-B7CC-47DA-B0AD-8907D33F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971C-376D-4C3B-962B-257E3C1CF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Washngtn"/>
          <p:cNvPicPr/>
          <p:nvPr/>
        </p:nvPicPr>
        <p:blipFill>
          <a:blip r:embed="rId1"/>
          <a:stretch/>
        </p:blipFill>
        <p:spPr>
          <a:xfrm>
            <a:off x="685800" y="609480"/>
            <a:ext cx="1620720" cy="19814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2812320" y="838080"/>
            <a:ext cx="34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 Zero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lynomial Func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SO00575_"/>
          <p:cNvPicPr/>
          <p:nvPr/>
        </p:nvPicPr>
        <p:blipFill>
          <a:blip r:embed="rId2"/>
          <a:stretch/>
        </p:blipFill>
        <p:spPr>
          <a:xfrm>
            <a:off x="7010280" y="533520"/>
            <a:ext cx="1049400" cy="2241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825480" y="31910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Descartes Rule of Sig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367920" y="3724200"/>
            <a:ext cx="84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ositive real zero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f 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ther equal to the number of sign change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or is less by an even integ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67920" y="5095800"/>
            <a:ext cx="845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number of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negative real zer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of f i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ither equal to the number of sign change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-x) or is less by an even intege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596520" y="600120"/>
            <a:ext cx="606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 Apply Descartes’s Rule of Signs t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7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27x - 18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763200" y="2514600"/>
            <a:ext cx="678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any sign variations are there in f(x)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5"/>
          <p:cNvSpPr/>
          <p:nvPr/>
        </p:nvSpPr>
        <p:spPr>
          <a:xfrm>
            <a:off x="3124080" y="1981080"/>
            <a:ext cx="1067040" cy="3049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624" h="144">
                <a:moveTo>
                  <a:pt x="0" y="0"/>
                </a:moveTo>
                <a:cubicBezTo>
                  <a:pt x="116" y="72"/>
                  <a:pt x="232" y="144"/>
                  <a:pt x="336" y="144"/>
                </a:cubicBezTo>
                <a:cubicBezTo>
                  <a:pt x="440" y="144"/>
                  <a:pt x="532" y="72"/>
                  <a:pt x="62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3680" y="311472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ly one sign change, so f must have exactl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positive real zer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822600" y="418140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about f(-x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32520" y="471492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-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7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27x -1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9"/>
          <p:cNvSpPr/>
          <p:nvPr/>
        </p:nvSpPr>
        <p:spPr>
          <a:xfrm>
            <a:off x="2743200" y="52578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76" h="96">
                <a:moveTo>
                  <a:pt x="0" y="0"/>
                </a:moveTo>
                <a:cubicBezTo>
                  <a:pt x="96" y="48"/>
                  <a:pt x="192" y="96"/>
                  <a:pt x="288" y="96"/>
                </a:cubicBezTo>
                <a:cubicBezTo>
                  <a:pt x="384" y="96"/>
                  <a:pt x="480" y="48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0"/>
          <p:cNvSpPr/>
          <p:nvPr/>
        </p:nvSpPr>
        <p:spPr>
          <a:xfrm>
            <a:off x="4419720" y="52578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576" h="48">
                <a:moveTo>
                  <a:pt x="0" y="0"/>
                </a:moveTo>
                <a:cubicBezTo>
                  <a:pt x="96" y="24"/>
                  <a:pt x="192" y="48"/>
                  <a:pt x="288" y="48"/>
                </a:cubicBezTo>
                <a:cubicBezTo>
                  <a:pt x="384" y="48"/>
                  <a:pt x="480" y="24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5410080" y="5257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480" h="96">
                <a:moveTo>
                  <a:pt x="0" y="0"/>
                </a:moveTo>
                <a:cubicBezTo>
                  <a:pt x="80" y="48"/>
                  <a:pt x="160" y="96"/>
                  <a:pt x="240" y="96"/>
                </a:cubicBezTo>
                <a:cubicBezTo>
                  <a:pt x="320" y="96"/>
                  <a:pt x="400" y="48"/>
                  <a:pt x="4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839160" y="5562720"/>
            <a:ext cx="685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variations in sign means f has either 3 or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gative real zero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1840" y="600120"/>
            <a:ext cx="66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ply Descartes’s Rule to   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x +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280880" y="151452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701680" y="151452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 +  +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280520" y="204804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491560" y="2886120"/>
            <a:ext cx="372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Rational Zero Tes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824400" y="372420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ional Zero =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9"/>
              <p:cNvSpPr txBox="1"/>
              <p:nvPr/>
            </p:nvSpPr>
            <p:spPr>
              <a:xfrm>
                <a:off x="3429000" y="3257640"/>
                <a:ext cx="6462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" name="Text Box 10"/>
          <p:cNvSpPr/>
          <p:nvPr/>
        </p:nvSpPr>
        <p:spPr>
          <a:xfrm>
            <a:off x="824400" y="5095800"/>
            <a:ext cx="57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factor of the constant ter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 = a factor of the leading coeffici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3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20280" y="828720"/>
            <a:ext cx="47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3x - 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053000" y="1819440"/>
            <a:ext cx="386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ible rational zeros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5" name="Text Box 5"/>
          <p:cNvSpPr/>
          <p:nvPr/>
        </p:nvSpPr>
        <p:spPr>
          <a:xfrm>
            <a:off x="5014800" y="15908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ctors of 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014800" y="2048040"/>
            <a:ext cx="18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tors of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7"/>
              <p:cNvSpPr txBox="1"/>
              <p:nvPr/>
            </p:nvSpPr>
            <p:spPr>
              <a:xfrm>
                <a:off x="2590920" y="2514600"/>
                <a:ext cx="31240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9"/>
              <p:cNvSpPr txBox="1"/>
              <p:nvPr/>
            </p:nvSpPr>
            <p:spPr>
              <a:xfrm>
                <a:off x="5862600" y="2819520"/>
                <a:ext cx="234144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10"/>
          <p:cNvSpPr/>
          <p:nvPr/>
        </p:nvSpPr>
        <p:spPr>
          <a:xfrm>
            <a:off x="596160" y="219240"/>
            <a:ext cx="41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rational zeros of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931000" y="295200"/>
            <a:ext cx="24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artes Ru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5929200" y="67644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or 1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928840" y="105732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5792400" y="350532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rt with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283040" y="376236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-1    1    -3    -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1219320" y="430524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219320" y="430524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67140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1280880" y="4429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181440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2347920" y="4448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2881080" y="4448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3538440" y="4448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253400" y="4448160"/>
            <a:ext cx="38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not = 0, so not a zer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671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6"/>
          <p:cNvSpPr/>
          <p:nvPr/>
        </p:nvSpPr>
        <p:spPr>
          <a:xfrm>
            <a:off x="128088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7"/>
          <p:cNvSpPr/>
          <p:nvPr/>
        </p:nvSpPr>
        <p:spPr>
          <a:xfrm>
            <a:off x="1814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8"/>
          <p:cNvSpPr/>
          <p:nvPr/>
        </p:nvSpPr>
        <p:spPr>
          <a:xfrm>
            <a:off x="2347920" y="5076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29574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0"/>
          <p:cNvSpPr/>
          <p:nvPr/>
        </p:nvSpPr>
        <p:spPr>
          <a:xfrm>
            <a:off x="3643200" y="5057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1"/>
          <p:cNvSpPr/>
          <p:nvPr/>
        </p:nvSpPr>
        <p:spPr>
          <a:xfrm>
            <a:off x="3429000" y="50673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2"/>
          <p:cNvSpPr/>
          <p:nvPr/>
        </p:nvSpPr>
        <p:spPr>
          <a:xfrm>
            <a:off x="1219320" y="552456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3"/>
          <p:cNvSpPr/>
          <p:nvPr/>
        </p:nvSpPr>
        <p:spPr>
          <a:xfrm>
            <a:off x="534960" y="57387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4"/>
          <p:cNvSpPr/>
          <p:nvPr/>
        </p:nvSpPr>
        <p:spPr>
          <a:xfrm>
            <a:off x="128088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5"/>
          <p:cNvSpPr/>
          <p:nvPr/>
        </p:nvSpPr>
        <p:spPr>
          <a:xfrm>
            <a:off x="181440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6"/>
          <p:cNvSpPr/>
          <p:nvPr/>
        </p:nvSpPr>
        <p:spPr>
          <a:xfrm>
            <a:off x="232884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7"/>
          <p:cNvSpPr/>
          <p:nvPr/>
        </p:nvSpPr>
        <p:spPr>
          <a:xfrm>
            <a:off x="2957400" y="5724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38"/>
          <p:cNvSpPr/>
          <p:nvPr/>
        </p:nvSpPr>
        <p:spPr>
          <a:xfrm>
            <a:off x="2743200" y="55245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9"/>
          <p:cNvSpPr/>
          <p:nvPr/>
        </p:nvSpPr>
        <p:spPr>
          <a:xfrm>
            <a:off x="4252680" y="5057640"/>
            <a:ext cx="41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   (x – 2) is a fa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0"/>
          <p:cNvSpPr/>
          <p:nvPr/>
        </p:nvSpPr>
        <p:spPr>
          <a:xfrm>
            <a:off x="4253040" y="5724360"/>
            <a:ext cx="41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   (x + 1) is a fa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1"/>
          <p:cNvSpPr/>
          <p:nvPr/>
        </p:nvSpPr>
        <p:spPr>
          <a:xfrm>
            <a:off x="211680" y="6281640"/>
            <a:ext cx="87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)(x – 2)(x + 1)  are the factors &amp; -1 and 2 are zer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33000" y="609480"/>
            <a:ext cx="85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d the rational zeros of  f(x) = 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8x + 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45680" y="1362240"/>
            <a:ext cx="13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.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509480" y="1371600"/>
            <a:ext cx="157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509120" y="18954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04000" y="137160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. zeros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8"/>
              <p:cNvSpPr txBox="1"/>
              <p:nvPr/>
            </p:nvSpPr>
            <p:spPr>
              <a:xfrm>
                <a:off x="4952880" y="1143000"/>
                <a:ext cx="12956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6207120" y="1209600"/>
                <a:ext cx="27939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±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Text Box 10"/>
          <p:cNvSpPr/>
          <p:nvPr/>
        </p:nvSpPr>
        <p:spPr>
          <a:xfrm>
            <a:off x="1966680" y="2962440"/>
            <a:ext cx="31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752480" y="3505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175248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12808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9666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28810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6"/>
          <p:cNvSpPr/>
          <p:nvPr/>
        </p:nvSpPr>
        <p:spPr>
          <a:xfrm>
            <a:off x="3795480" y="36482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4709880" y="364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472000" y="3648240"/>
            <a:ext cx="157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orks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4419720" y="3505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601920" y="456264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1)(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x –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593280" y="5172120"/>
            <a:ext cx="32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1)(2x – 1)(x + 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22"/>
          <p:cNvSpPr/>
          <p:nvPr/>
        </p:nvSpPr>
        <p:spPr>
          <a:xfrm>
            <a:off x="828360" y="578160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     ½        -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687600" y="60012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.    f(x) = 10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15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16x + 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73200" y="1209600"/>
            <a:ext cx="9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c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14400" y="12096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or 0 (+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814040" y="1666800"/>
            <a:ext cx="8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(-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568680" y="1209600"/>
            <a:ext cx="189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s. Zero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7"/>
              <p:cNvSpPr txBox="1"/>
              <p:nvPr/>
            </p:nvSpPr>
            <p:spPr>
              <a:xfrm>
                <a:off x="5638680" y="1143000"/>
                <a:ext cx="3124440" cy="15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>
                          <m:t xml:space="preserve">1,2,3,4,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±</m:t>
                        </m:r>
                        <m:r>
                          <m:t xml:space="preserve">1,2,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-11160" y="2666880"/>
                <a:ext cx="914868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,2,3,4,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1661760" y="4029120"/>
            <a:ext cx="328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1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>
            <a:off x="1447920" y="45720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144792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976320" y="4714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1585440" y="47149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2500200" y="4714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3566520" y="471492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2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4405320" y="4714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1600200" y="49528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95724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1585440" y="53244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26524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3566880" y="53244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2"/>
          <p:cNvSpPr/>
          <p:nvPr/>
        </p:nvSpPr>
        <p:spPr>
          <a:xfrm>
            <a:off x="4481280" y="5324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191120" y="5334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5031000" y="5334120"/>
            <a:ext cx="132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s!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601920" y="6086520"/>
            <a:ext cx="32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– 2)(10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5x – 6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4178520" y="6086520"/>
            <a:ext cx="231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d. form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27"/>
              <p:cNvSpPr txBox="1"/>
              <p:nvPr/>
            </p:nvSpPr>
            <p:spPr>
              <a:xfrm>
                <a:off x="6629400" y="5257800"/>
                <a:ext cx="2514600" cy="15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39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0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1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5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4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9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77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6" dur="770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8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0" dur="77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414720" y="380880"/>
            <a:ext cx="83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the given zero to find all the zeros of the function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99760" y="109692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Given:  3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60440" y="1690560"/>
            <a:ext cx="71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3i is a zero, then -3i, it’s conjugate, is a zero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60800" y="2224080"/>
            <a:ext cx="59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ultiply these zeros in factored for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04720" y="270360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x - 3i)(x + 3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794680" y="268128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3156480" y="1143000"/>
            <a:ext cx="333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9x + 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0"/>
              <p:cNvSpPr txBox="1"/>
              <p:nvPr/>
            </p:nvSpPr>
            <p:spPr>
              <a:xfrm>
                <a:off x="609480" y="3429000"/>
                <a:ext cx="521352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Rectangle 10"/>
          <p:cNvSpPr/>
          <p:nvPr/>
        </p:nvSpPr>
        <p:spPr>
          <a:xfrm>
            <a:off x="864720" y="5410080"/>
            <a:ext cx="37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Zeros are 3i, -3i, and 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nass.ibrahim</cp:lastModifiedBy>
  <dcterms:modified xsi:type="dcterms:W3CDTF">2012-02-23T05:39:12Z</dcterms:modified>
  <cp:revision>4</cp:revision>
  <dc:subject/>
  <dc:title>PowerPoint Presentation</dc:title>
</cp:coreProperties>
</file>